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A629-8A4D-4673-8DF6-311245440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7441-1747-4525-80FF-AE459BD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FCBE-B6E2-449D-BA43-F0F3F01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F529-802D-406A-A830-3AC952A55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33EA-66F7-4F97-8E3B-74D75A8E4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3DE8A-84F0-46A7-9DCB-D770B16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C4CC7-75B9-41B0-BDA5-08D6725B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1E89-182E-4F38-A079-3943270C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CB26C-D2F9-4149-90D8-96889FD6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F9275-60BD-4DE0-A60E-CCF589C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F39D-711F-42A8-BEDC-47425FC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394C-5054-4A0E-B256-170D96FF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B11C8-999B-4DDC-9E4C-258E630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FCFAE-5729-427C-8619-0A797B59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608C7-A71B-4249-931F-56B132BF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03E82-8359-4010-8553-793D246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1D9C7-ABCF-439F-9F58-F7B361E3C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3A0-7E5B-4AF2-BC3F-BD9666A1D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C8EA-4822-4BF0-9901-65E0BE66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2FDF-5C32-4155-B3E2-00AAFE3B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AF1-9546-4965-80BB-E4DBCE96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9FD-BCC6-4DDB-BE6B-4DC2BC34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DB92-9092-4A45-83D9-C6F4A0DF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48B9-68CD-4F1A-8964-C2E5F94B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D1ED-6382-42A4-A22E-3B6D6569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CA30-92D4-470F-863A-1CEC9EB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CE10-5F79-4A54-AE02-A6800C54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8D3-6B18-477B-88D9-D118C826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1A6A-EF85-42EF-89EF-3727425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9E26-22F9-48F5-A140-90B6F273F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58BA8-C4CB-42E7-8360-803B1EBE8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5E3F6-A1E8-4238-8A43-13810EA7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EFE1B-9745-4752-A150-D876821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DDA4-24AA-410E-8595-1BDBCBDD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BFC2E-61D0-409A-94F1-30927DAB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0AA8D-1C2A-434A-999F-BC5FFE95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F79E0-9B80-43F7-BF88-747FDF72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77D49-F46C-4D4F-AF18-06FB630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6C703-180F-45D1-8C39-6FCE272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4E337-1669-41C5-8338-FDF4B3B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353B2-0442-4366-8987-40C585EC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8562D-DE98-4D0C-A3E2-3AD904E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F8AFB-79B2-48F3-8988-B2BA2A8C2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56DE-D37C-48D5-9683-8B0AE7E8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5DF5-B25D-441B-A5F1-D9E4A323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D449-56BF-438C-A01B-6E5B76E5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B7DF-C3C8-468A-B80D-C18CE1B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1C48-F9AA-446A-BFF7-9A898BB0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B1A70D-4882-4EEE-9130-49B6E06497FD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F09B90-C124-4E26-AB7D-4278A4AB9B5C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F3E8C49-A2D9-4F14-9958-1323362239E9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C9ECE9-46D2-4EFB-8624-F5262891B54E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633240" y="920880"/>
            <a:ext cx="8077320" cy="1487520"/>
            <a:chOff x="633240" y="920880"/>
            <a:chExt cx="8077320" cy="148752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633240" y="920880"/>
              <a:ext cx="8077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3240" y="920880"/>
              <a:ext cx="807732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00040" y="2571840"/>
            <a:ext cx="80726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Protocollo d’Intes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ssessorato Sanità Regione Campania - Procura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ogetto Formazione Personale Vigilanza ASL Campa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D.ssa Lucia Marino Direttore SIML  Dipartimento Prevenzione ASL NA</a:t>
            </a: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 Cen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248436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14240"/>
            <a:ext cx="464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4240" y="2857680"/>
            <a:ext cx="2143440" cy="7855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0" y="2643120"/>
            <a:ext cx="23576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Giustizia</a:t>
            </a:r>
            <a:r>
              <a:rPr b="0" lang="en-GB" sz="18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H="1">
            <a:off x="2785320" y="1785600"/>
            <a:ext cx="85788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>
            <a:off x="5429160" y="1856880"/>
            <a:ext cx="929520" cy="715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57200" y="1935000"/>
            <a:ext cx="82296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inizio a un percorso nuovo condiviso mettendo in comu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esperi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form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57120" y="71424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Solo attraverso la conoscenza del territorio e la competenza degli operatori si può attuare una vera strategia della sicurezza e programmare azioni di sinergia incisive ed efficaci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abbattimento 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’incidenza  degli  infort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e  malattie 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la realizzazione  di un sistema  di sicurezza organizzata che garantisca pienamente la tutela della salute e della sicurezza dei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42960" y="2000160"/>
            <a:ext cx="7586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5400" spc="-1" strike="noStrike">
                <a:solidFill>
                  <a:srgbClr val="0070c0"/>
                </a:solidFill>
                <a:latin typeface="Edwardian Script ITC"/>
              </a:rPr>
              <a:t>Grazie  per 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Convegno Reg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20 e 21 maggio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 Campania – Assessorato alla San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CUREZZA E’ SINERGIA ISTITUZIONA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Nell’ambito del convegno è stato sottoscritto un Protocollo di Intesa condiviso dalla Procura Generale della Repubblica di Napoli e dall’Assessorato alla Sanità della Regione Camp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Sinergie Istituzi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a collaborazione istituzionale, sancita dal Protocollo di Intesa assolverà a varie funzioni e tra l’altro è stato messo a punto e pianificata un’attività formativa rivolta agli operatori delle ASL impegnati nelle attività di Prevenzione e Vigilanza degli ambienti di lavoro di tutta la Regione Campan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vigil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decreto 81/2008 e le successive modifiche introdotte dal D. Lgs. 106/09 confermano che la vigilanza sull’applicazione della legislazione in materia di salute e sicurezza dei luoghi di lavoro è a carico della Azienda Sanitaria Locale competente per territorio, pertanto è necessario che al personale dei servizi di vigilanza delle ASL venga assicurata una opportunità di confronto sia istituzionale sia tra tutti gli operatori regional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truttura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corso che tutt’ora si sta svolgendo è rivolto a un totale di 250 operatori e suddiviso in 4 moduli di 50 persone ciascuno per un totale di 150 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norma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mpianti-cantieri-appal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chi chimici, biologici e fis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ttività di vigilanza e la qualifica di U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Destina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li operatori del sistema sanitario nazionale della Regione Campania dipendenti dei servizi PSAL e SIML dei Dipartimenti di Prevenzione delle ASL che svolgono attività di vigilanza in materia di tutela di salute e sicurezza dei lavoratori con funzioni di polizia giudizi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Me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im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gegn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P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’iniziativa di questo protocollo di intesa è innovativa in Italia e punta ad ottenere una sinergia tra istituzioni deputate ad arginare il fenom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da lavoro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( infortuni e malattie professional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contras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prevenzi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Questa collaborazione istituzionale assolve a varie funzio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arantire al personale delle ASL un corretto aggior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sicurare un’uniformità di orientamenti su tutto il territorio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Potenziare l’azione dei singoli attori attraverso un coordinamento istitu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Valorizzare la sinergia tra prevenzione e re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 realizza così un Coordinamento t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-ASL  e Proc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e trasforma l’esperienza collaborativa già esistente, ma limitatamente alla repressione dei reati in tema di tutela di salute e sicurezza dei luoghi di lavoro, in una collaborazione stabile attraverso un </a:t>
            </a:r>
            <a:r>
              <a:rPr b="1" lang="en-GB" sz="2600" spc="-1" strike="noStrike">
                <a:solidFill>
                  <a:srgbClr val="0b5395"/>
                </a:solidFill>
                <a:latin typeface="Constantia"/>
              </a:rPr>
              <a:t>travaso di esperienze e una osmosi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ra le istituzioni prepos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giuri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operativi della vigil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6043</cp:lastModifiedBy>
  <cp:revision>0</cp:revision>
  <dc:subject/>
  <dc:title>Osservatorio Napoli Città Sicura 21 e 22 gennaio 2010</dc:title>
</cp:coreProperties>
</file>